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200-FA8B-4470-8040-A2DE3B75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2A2-B1C3-4BF7-9684-8C8D35B3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A7287-D372-49E2-87EB-49FF306A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2201A-D104-4D93-912D-F9F8DE2F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4F1CE-CB72-4727-A2F9-A48C7F99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5EF2A-631F-413B-A1AB-DBE6D4FB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4F51B-3978-4308-85B3-BF61278D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BA966-E658-4C94-8958-AA86561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D6E02-8D8A-4522-9218-D9210A1E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BA012-E752-4340-BD57-F98A73D8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17072-0203-4ED7-BFF1-8A3E6C75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24F33-A012-4FF4-8741-7FB4A425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556-74C0-4370-9C9C-4A19C0D0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5117E-F20D-4DB5-A4CC-90FF333A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86018-E37F-4479-AAED-6994B2EC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872CF-FD17-408E-A701-A256495E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1BEEB-3322-4C97-A160-DB28AE03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559CA-9BC1-41D5-B2DE-CE0CEC52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C1C75-2200-439F-885D-93F2BF5E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45573-2423-4441-8533-EF5F5CFD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71B90-1161-45CA-9AC5-1E5A8C2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8E104-7346-4F7D-8EC2-1A7A1998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7CD73-A71F-4B2D-8936-586D7D42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400-18EA-4FFA-90BA-58AEF4C4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FBEDB-CA64-47CD-86DC-AA69AF4D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56249-F2FF-4DFD-B0EF-A1B1E778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64CEE-4CFD-46FD-AA15-3D581925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91472-99AA-4B47-8CC3-359EC79A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72B15-0C16-49E0-8B7F-4C46DD94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92FEA-2908-42A8-B6E4-A9131BF0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A995F-A253-44CE-B3BB-D2CF7362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610B7-CA44-46DB-9F00-6937B525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09471-19AF-4FE4-92EE-B988A29D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51354-C58F-4F80-B6B2-5032FB4D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4C78-E625-480B-B19C-8F353562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42026-1DDD-4A92-AC77-984EB15A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F1F71-DB82-45BC-927E-2BC9A48B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3F98E-5558-435C-B318-58E3D1EA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5E27D-7426-4E30-8313-08ED6343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6D862-B123-4D72-97DA-6E0F66A5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91B48-98AF-4CC4-A6B9-5E486900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E54C3-E07B-4096-8F60-AFAD2243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F0183-7ECB-4248-861F-7BFA5047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24F71-3C77-4BD8-BE2F-F80EB146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8CC10-9308-4712-9AF8-D391C222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5D0D-3E81-4722-8E1E-F2739F9D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366CE-A76D-477A-895D-2C1F53A1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F4AA4-866E-4449-966C-BB8FAA7D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2C8E4-D668-422C-8363-EE4CC1F0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12F71-5995-4393-BB23-E19D7CEA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0E5C2-D71C-4C78-B540-AC696763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FB360-4B74-49CE-BBF4-62A5744C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E2A38-3DD1-4B74-95AC-AA849FD5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348E3-679F-4EF7-BCB6-A9D53E32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1A9B7-7CD8-4C7A-94AD-1CFDAB72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7CEC7-4FFC-4AE0-ABA4-2458AC8A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06C2-FC80-4CA7-A463-04A8AB5D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0E77A-29A3-4613-A426-79F85D69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6C4F2-25E2-449D-B80D-339505B9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7C6A0-3810-4CF4-92A2-E10504CB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60CD3-0821-478E-9B7F-5F9AC87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4AC67-3FBF-4BF6-92E5-EAD089DF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E2315-38DE-42F4-AC58-CB432123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E6DD0-E04A-4FF6-86AE-0E78954E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D5E4E-DA13-4252-9D97-3C8DD4EC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629D7-AC91-47E2-AABD-EF3F3964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73F5E-32F6-4DD4-A9AA-505D3106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721D-0DB5-4CE5-88B3-1CAAD330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46AB1-B72D-41E5-9040-786E9799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6CCA9-C5DD-40A4-80FF-B9B3ED03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7235D-8F04-4DED-974E-F02C632D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5834A-9C40-46E7-A0DB-AF558FE5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1F832-21E6-43B2-A737-E799E339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E4EED-AE3E-4122-BE1D-CACD1898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220FF-5479-46D7-81B7-886D2200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72790-80E3-49AC-98DA-BE9DF443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FB7CB-D889-4223-AFAA-54147262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23156-256F-4D51-8DC0-9B01D8C2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E5A6-B450-4301-B182-4F4DA959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AA2DB-D7E2-4DDE-873A-3675E901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655ED-6583-4B98-B08D-5FF1134B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F3555-AAB3-4519-8F63-0E76925C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5354A-19E6-45F1-953E-E9007E78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BF7BA-B173-44B7-95A7-2123DC8F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91681-97AC-4244-BE66-833DBD97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04CBE-FE1F-489C-A1F8-3F3AFF02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F6657-0190-4450-B12E-003FE055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02D1D-3B63-4ED1-B91A-4E987F73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36D15-2933-4F17-8189-7321FE36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3C31-91F0-4126-AA44-B15EE8A5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7048C-4443-451C-9A12-7128DEE7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25535-7F90-4C38-8954-7009DB3D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A99701-BE93-4924-A66F-769FCB69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63114-633B-4B58-B6CC-60E8F72A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EE670-B111-4415-8764-3A48B025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2BB98-33D7-4940-8708-869E843A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427AA-7283-43F3-B4A1-C7B0D0EA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75F71-DCB9-4B72-A1D0-876CE3B3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D67A8-7D8F-458F-9708-BC6A1220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0F579-4DB2-4A2A-96C5-F8891BA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7222-A0C4-433C-8FB1-AF92FE54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FF16D-7AB3-404F-8D02-750F2436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1683C-8432-4422-842E-BB835119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EB562-240E-4C1D-A9A9-AC79FCB9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E7694-9FDC-4924-A537-0B79FC2B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16AE8-F77B-4E98-BA75-71E74B5C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D1F0C-8F0F-4404-976C-8AB48FF1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9AD67D-117B-43FC-8A32-B361706E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7518B-F5B4-41A0-BC84-0913F493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31E77-4067-4D6C-B525-B97B8A9D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D45D3-2B56-4D8F-AE63-DB157916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D93-B3A8-422D-ACCC-90DDF935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8A57-220C-490E-8F9A-B3D09C59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3291B-5481-41F9-9C21-B1FACA45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60A40-CB2E-4480-B63C-06151E81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9C129-3F44-44D6-B239-E2446D9D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C0D19-72C9-4CEE-B7D5-7382E73B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6523E-B59B-4E09-B9C1-26B745EE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C86CE-BDC9-4F96-9518-52D2ADE5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33E303-A7D8-4ED8-9CE1-07B2B73D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9EFA61-D42B-4EDB-876C-E691CB85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5FB11-A7FA-40DF-8DED-AF06D8B3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1F4FA-B01D-46FF-989C-947600B2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7DA6-E2EC-412A-AC74-5D7AD7A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15D36-CE07-4470-80DF-03BAB785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F90161-899A-40E7-8F20-25465596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E1F576-2643-430C-8B9D-8104663B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580AFB-CC00-4B29-BBAC-D3082C6C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237D9-4308-4C1C-BF36-BD1252BF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8FCD2-44DE-4DAE-96B5-F969ED1B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587D86-5CD3-4736-A9B2-8EF81585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1C7744-38BE-4A28-ABD4-07522FC9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DDD8A-A167-4D7D-BF07-B4E12DDB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4352C-85EA-422C-84B9-85DC01C3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97FA-0946-4458-8183-A3FE5674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D00C3-A18B-4CD2-82ED-B4CD4761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14BAEB-5092-4BA8-B90C-48C54C66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D07F5-DEA5-4729-B8E7-A3B4836F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FF2D01-3FFD-4B25-ACBE-56CE4BED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5A9D56-F027-4662-ACDA-14943DB3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CFF9EB-8472-4451-B7FA-B3E6F674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1C64D4-3CAD-4BB5-A471-F3075295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708634-8813-4C84-AA21-8A2913B1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672F80-0166-4361-90C7-CD9889DB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0CC494-7D13-4A15-9DF2-45297DF5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7DAE-2A9F-492D-924B-86336918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F50C6-F750-4B15-A203-0C1AB5D4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AD5CA7-9C51-4B11-9F34-952A340F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429469-AFBE-4530-80A2-65E6D89D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A5275-9A92-42A7-8473-64645454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5EEA15-816F-4960-8B93-C34F3AA6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E314A5-613C-48BE-8DE2-DAB4D6D1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6CE6F7-777B-48A2-A825-7855D328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02A3B-24B5-4C1A-B00E-4C580170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EFFBAD-DF80-4EEA-B769-6D360AED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A47A4B-F661-4F89-8D17-FE1AD73C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5845-EDD6-469B-AA77-91C2405B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A6105-F812-4AD4-8A61-CD272D32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9E56E-8FC1-42BA-B0AF-9ED3FE5C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534D4-C514-4B8D-A5DE-7CBAEFDF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9EE50B-7C1F-4613-BE71-E32E4A09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5DD833-C7C2-4437-87C0-4C1964BF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B0F5B-5FF0-4D62-B6C8-B05A5F40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B7B589-02BC-43AD-99EF-14C84FF8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213AFD-011F-4045-9AA2-AD87428D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51B352-63E9-483A-B252-FDED4745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A591AB-6431-4CDE-A5AD-AC9D47CE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9C08-36F8-4D2B-B601-2AC6579C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F61385-9DB9-4A39-ADFE-8500AD9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AE82F6-21AA-4FF2-BB0D-527CEA05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30D66-7030-4F8E-8C38-7C8CE13A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76486-8ED6-489D-AE20-AA19FBF2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0930-530B-4B3F-BF77-A6D820C4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2182-6165-4EC8-A14C-0D5BF2D4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6B71-323C-420F-A6C6-4D1EE013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DBA-FA2F-404F-9273-14DEBCE9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3CA1-7751-402D-BFDD-EF8DD681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7953-21B8-41CF-84BF-69C8D8F8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7BF9-EC4B-4376-8678-9CBA7EC1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0F76-4F5E-4A1E-BF92-29281E74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76FD8-7EBF-41A1-88D1-1F799E0A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25C1-3B20-4486-B88D-D8684266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0DE9-3079-4745-A7CC-F9881F04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C574D-C7A8-4172-BDFA-04349958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3332-3FF6-4410-A9CA-C4215FAF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AE4D-58DB-472D-B657-CA4E5166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B07-082B-4192-8183-AFF61D94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019B-F352-4B5D-BFC4-9BF9A870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43EE-1EBA-450B-B0E7-01FC7D40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52F07-D93E-4400-9CA5-0219393C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B469-A31F-4853-9C9B-234605E4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F3A5E-9404-45F4-9710-F6C571E5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1BE95-B3DD-4CC4-8D20-AEEE0FE7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FE9CB-16E8-439F-86F3-11573883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9EDC5-2117-4498-A3B6-1F431545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BB84-6109-4002-BCAD-D76FC882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D9E36-C2D3-4708-8F5E-AE6F4D0D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B9A-EE94-43FC-A1D9-C0D6230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582C0-BC96-4863-A644-B61562C2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80764-609B-4217-9163-82260ECD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637FC-3FCE-448D-935A-DB9695FF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A37F6-0B81-4397-8ABD-47B2B819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E46F1-20EE-4363-9D09-358864CA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F8874-AB92-487E-B5B1-6EBC2238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5AD28-0625-44DE-BCF7-871A63E7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31D66-97D6-4894-9E54-5FD8E8B4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874CD-EF54-4EFE-850F-B58417C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AF044-4FD3-42D5-A892-52B2E30F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0F2-7429-4945-9FBA-629A5CF9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932C7-ED6D-4337-9948-1939247B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EB9D-D355-47A7-B0DF-EB4C757B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4BF9D-E468-497C-A1CB-D5CFDE50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2846E-0897-4282-8C45-50DDACBA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AA077-8D88-457F-94A1-9BACC7FA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24FA6-A75C-41D2-847A-516A72A6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83E50-7C98-4BB7-9B23-86B330C9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0F8A7-12D9-49CC-ACE9-C7473B8C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16BA6-D9E7-4625-AC22-242574D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96B28-D002-473B-8EF9-06EB886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117-7BB1-4CB9-A55B-6264D4C8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88BD6-76A5-4FF0-A004-F262F299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61F2-8E02-4E04-B9E8-67D08AEE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3526-55BB-49B2-8518-E98CA356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ACC9C-F613-44CE-804C-467FA29E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30DE7-932C-4E72-90FF-8CCF9FEE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16471-790E-4DD5-9C74-81805955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D62A7-5963-4F5E-BFFE-92C1E0FF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5BCFA-C85D-4E61-A927-6D726520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EA50D-A81C-412D-9A2B-FA51819C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36208-CD62-45FE-903D-96307DBB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5DD-DC82-4EB0-96D8-A711D517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723EA-C5E0-43AF-89D7-F98B212E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AF0D5-A7BF-429B-8377-DAE49E5A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4CE57-5313-43D8-B816-AF30170C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BD734-4448-4396-82AA-7BDEF09D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86C02-9F95-4E2D-A212-99F1D868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A4D0F-5899-49EE-B442-83EF700B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1D010-6A82-4C45-A4A6-7BBF1F4D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4A2C1-446A-4430-8780-D9963FF2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879B2-9986-45AE-ACA2-238C0DAE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E2011-8B06-4E36-AE14-9F5F902B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ABF-AFAB-4DD1-B968-A3F171D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57E3-4FDA-40C0-AACA-2D6F0584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8FF7B-B6FF-40F1-B62F-543A3C27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98DE8-879F-4C51-B836-E4970C76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FC123-F1A6-442A-B5B0-BF061C07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11E86-A243-44C1-89AC-4D55814C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D6715-5F64-4CC4-9D34-D2175E8E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AD9B8-9F61-4735-A402-4385AA28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03C5B-FAE2-433D-BA4D-EBEF34FC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7CF83-B0DA-42A5-A6FE-E3D3FF29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CD135-A7F7-4C41-A680-CA711B2C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3748-B144-4585-B07B-A08F4F7489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E76D-0C12-458E-8F99-20A4C4A5A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2A8D-D5BD-4792-B8C4-8182B62182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4C7E-B408-4E88-8C8B-FF973C2147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795C-3E3D-4D73-A494-08ED95033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13F6-3EF9-4D5F-B860-037FE108F0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F131-6C8E-4BFA-909D-DF3F9F1B6A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DC95-AB3D-42AC-A2A8-788E4765AF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0F39-3B8F-4F31-B1E8-719021A60C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10B5-B04E-4B05-B194-F73A38647C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30AE-C26D-4940-9673-D30BA3284B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8830-9641-4C84-B225-9AEA4EEA15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378D-F4CF-48D4-9346-9B27026F4C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E76A-663E-4F96-AC0B-557529E212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8947-AC19-4A90-98C1-915B5B30B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C4A3-0914-440C-A60F-831F370367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F547-9521-4D87-8058-C2DCB8F490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2C9A-6900-49E2-BD7E-1961561C6D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3087-9ED7-4037-BB2D-BBD243A5C9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08D1-50B5-497A-8E1D-7EB6DD99EE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F0BF-269B-4527-9BE6-79E94A2FEC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89EB-8F9E-477B-85B7-F057A9E2F8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DE5A-4A4F-4884-945B-885EA17AF1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9F74-CDA6-44A8-A035-4BBA5ED781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8512-4116-441E-B9FC-0627A34E09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257D-095B-44D2-B364-F186DAE121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A5D5-B8DA-4C06-A01C-F025B9F474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2B32-00A9-40A2-9A85-C733C03BA7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6F26-5C1F-4FBD-8E07-5527B2C1E4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AA00-E355-41BE-AFA2-32D8172C69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135D-4DB4-4EF8-8A35-1755DFE183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C6AB-C860-45C6-9D64-FFF4A3CAD5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32DF-D336-42AD-BADB-1605937245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A789-12A6-4E28-88E2-E52ADF0AC0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C28F-F5F0-45E0-B3A3-5DCE8294CA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7AEA-C066-4110-88BA-CC280C03B5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A83D-FB47-43DB-BCF3-B50930CAC3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7933-8C5B-461D-9AD7-2EA26B91EF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1F03-DA1E-46C6-A3C3-38AA916FB9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74E9-91E7-419F-908E-4A3A76DC4D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19240" y="3033720"/>
            <a:ext cx="51055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85840" y="971640"/>
            <a:ext cx="8572320" cy="49147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948360" y="335772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276720" y="4164120"/>
            <a:ext cx="7905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050920" y="5329080"/>
            <a:ext cx="122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71680" y="816120"/>
            <a:ext cx="8001000" cy="5781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5508720" y="836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1908000" y="13842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635280" y="170028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6084720" y="3068640"/>
            <a:ext cx="129564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3419640" y="3659040"/>
            <a:ext cx="129528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8028000" y="36590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9"/>
          <a:stretch/>
        </p:blipFill>
        <p:spPr>
          <a:xfrm>
            <a:off x="1187280" y="424980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0"/>
          <a:stretch/>
        </p:blipFill>
        <p:spPr>
          <a:xfrm>
            <a:off x="1692360" y="544500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1"/>
          <a:stretch/>
        </p:blipFill>
        <p:spPr>
          <a:xfrm>
            <a:off x="3635280" y="544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2"/>
          <a:stretch/>
        </p:blipFill>
        <p:spPr>
          <a:xfrm>
            <a:off x="1835280" y="610704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262080" y="770040"/>
            <a:ext cx="8619840" cy="5972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216072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084720" y="3860640"/>
            <a:ext cx="216072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6227640" y="5084640"/>
            <a:ext cx="216072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6084720" y="6278400"/>
            <a:ext cx="216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7352" descr=""/>
          <p:cNvPicPr/>
          <p:nvPr/>
        </p:nvPicPr>
        <p:blipFill>
          <a:blip r:embed="rId1"/>
          <a:stretch/>
        </p:blipFill>
        <p:spPr>
          <a:xfrm>
            <a:off x="376200" y="603360"/>
            <a:ext cx="8391600" cy="6210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55640" y="1960560"/>
            <a:ext cx="367200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367164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5076720" y="1930320"/>
            <a:ext cx="367200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5076720" y="2506680"/>
            <a:ext cx="367200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826920" y="4811760"/>
            <a:ext cx="3672000" cy="922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826920" y="5921280"/>
            <a:ext cx="3672000" cy="922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8"/>
          <a:stretch/>
        </p:blipFill>
        <p:spPr>
          <a:xfrm>
            <a:off x="5003640" y="5027760"/>
            <a:ext cx="367200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9"/>
          <a:stretch/>
        </p:blipFill>
        <p:spPr>
          <a:xfrm>
            <a:off x="5443560" y="5719680"/>
            <a:ext cx="367200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6324" descr=""/>
          <p:cNvPicPr/>
          <p:nvPr/>
        </p:nvPicPr>
        <p:blipFill>
          <a:blip r:embed="rId1"/>
          <a:stretch/>
        </p:blipFill>
        <p:spPr>
          <a:xfrm>
            <a:off x="314280" y="1128600"/>
            <a:ext cx="8515440" cy="46008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826920" y="3127320"/>
            <a:ext cx="5761080" cy="949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5761080" cy="9493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826920" y="5200560"/>
            <a:ext cx="70581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309600" y="195120"/>
            <a:ext cx="8524800" cy="64677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900000" y="327024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539640" y="501336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468360" y="5618160"/>
            <a:ext cx="867564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324000" y="6194520"/>
            <a:ext cx="7993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4276" descr=""/>
          <p:cNvPicPr/>
          <p:nvPr/>
        </p:nvPicPr>
        <p:blipFill>
          <a:blip r:embed="rId1"/>
          <a:stretch/>
        </p:blipFill>
        <p:spPr>
          <a:xfrm>
            <a:off x="290520" y="1066680"/>
            <a:ext cx="8562960" cy="4724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6408720" cy="863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84360" y="5300640"/>
            <a:ext cx="640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52231" descr=""/>
          <p:cNvPicPr/>
          <p:nvPr/>
        </p:nvPicPr>
        <p:blipFill>
          <a:blip r:embed="rId1"/>
          <a:stretch/>
        </p:blipFill>
        <p:spPr>
          <a:xfrm>
            <a:off x="262080" y="690480"/>
            <a:ext cx="8619840" cy="54770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4427640" y="257976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1:0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